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56" spc="-1" strike="noStrike">
                <a:solidFill>
                  <a:srgbClr val="000000"/>
                </a:solidFill>
                <a:latin typeface="Arial"/>
              </a:defRPr>
            </a:pPr>
            <a:r>
              <a:rPr b="0" sz="1356" spc="-1" strike="noStrike">
                <a:solidFill>
                  <a:srgbClr val="000000"/>
                </a:solidFill>
                <a:latin typeface="Arial"/>
              </a:rPr>
              <a:t>GUAICURU</a:t>
            </a:r>
          </a:p>
        </c:rich>
      </c:tx>
      <c:layout>
        <c:manualLayout>
          <c:xMode val="edge"/>
          <c:yMode val="edge"/>
          <c:x val="0.449194983651339"/>
          <c:y val="0.020116463737427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95054012665"/>
          <c:y val="0.165813775660255"/>
          <c:w val="0.959852655105335"/>
          <c:h val="0.81389330039409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Guaicuru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2008 agosto</c:v>
                </c:pt>
                <c:pt idx="1">
                  <c:v>2008 setembro</c:v>
                </c:pt>
                <c:pt idx="2">
                  <c:v>2008 outubro</c:v>
                </c:pt>
                <c:pt idx="3">
                  <c:v>2008 novembro</c:v>
                </c:pt>
                <c:pt idx="4">
                  <c:v>2009 março</c:v>
                </c:pt>
                <c:pt idx="5">
                  <c:v>2009 abril</c:v>
                </c:pt>
                <c:pt idx="6">
                  <c:v>2009 maio</c:v>
                </c:pt>
                <c:pt idx="7">
                  <c:v>2009 junh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43.55</c:v>
                </c:pt>
                <c:pt idx="1">
                  <c:v>8.87</c:v>
                </c:pt>
                <c:pt idx="2">
                  <c:v>9.52</c:v>
                </c:pt>
                <c:pt idx="3">
                  <c:v>41.46</c:v>
                </c:pt>
                <c:pt idx="4">
                  <c:v>47.32</c:v>
                </c:pt>
                <c:pt idx="5">
                  <c:v>53.72</c:v>
                </c:pt>
                <c:pt idx="6">
                  <c:v>96.08</c:v>
                </c:pt>
                <c:pt idx="7">
                  <c:v>84.68</c:v>
                </c:pt>
              </c:numCache>
            </c:numRef>
          </c:val>
        </c:ser>
        <c:gapWidth val="100"/>
        <c:overlap val="0"/>
        <c:axId val="76784057"/>
        <c:axId val="98124344"/>
      </c:barChart>
      <c:catAx>
        <c:axId val="7678405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24344"/>
        <c:crossesAt val="0"/>
        <c:auto val="1"/>
        <c:lblAlgn val="ctr"/>
        <c:lblOffset val="100"/>
        <c:noMultiLvlLbl val="0"/>
      </c:catAx>
      <c:valAx>
        <c:axId val="98124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8405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289" spc="-1" strike="noStrike">
                <a:solidFill>
                  <a:srgbClr val="000000"/>
                </a:solidFill>
                <a:latin typeface="Arial"/>
              </a:defRPr>
            </a:pPr>
            <a:r>
              <a:rPr b="0" sz="2289" spc="-1" strike="noStrike">
                <a:solidFill>
                  <a:srgbClr val="000000"/>
                </a:solidFill>
                <a:latin typeface="Arial"/>
              </a:rPr>
              <a:t>GUAICURU 2008</a:t>
            </a:r>
          </a:p>
        </c:rich>
      </c:tx>
      <c:layout>
        <c:manualLayout>
          <c:xMode val="edge"/>
          <c:yMode val="edge"/>
          <c:x val="0.378904843806248"/>
          <c:y val="0.01983223154269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792048318067"/>
          <c:y val="0.16710182767624"/>
          <c:w val="0.786328546858126"/>
          <c:h val="0.79278928948391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Agosto</c:v>
                </c:pt>
                <c:pt idx="1">
                  <c:v>Setembro</c:v>
                </c:pt>
                <c:pt idx="2">
                  <c:v>Outubro</c:v>
                </c:pt>
                <c:pt idx="3">
                  <c:v>Novembr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24</c:v>
                </c:pt>
                <c:pt idx="1">
                  <c:v>124</c:v>
                </c:pt>
                <c:pt idx="2">
                  <c:v>42</c:v>
                </c:pt>
                <c:pt idx="3">
                  <c:v>123</c:v>
                </c:pt>
                <c:pt idx="4">
                  <c:v>41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Agosto</c:v>
                </c:pt>
                <c:pt idx="1">
                  <c:v>Setembro</c:v>
                </c:pt>
                <c:pt idx="2">
                  <c:v>Outubro</c:v>
                </c:pt>
                <c:pt idx="3">
                  <c:v>Novembr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54</c:v>
                </c:pt>
                <c:pt idx="1">
                  <c:v>11</c:v>
                </c:pt>
                <c:pt idx="2">
                  <c:v>4</c:v>
                </c:pt>
                <c:pt idx="3">
                  <c:v>51</c:v>
                </c:pt>
                <c:pt idx="4">
                  <c:v>120</c:v>
                </c:pt>
              </c:numCache>
            </c:numRef>
          </c:val>
        </c:ser>
        <c:gapWidth val="100"/>
        <c:overlap val="0"/>
        <c:axId val="48387222"/>
        <c:axId val="87590467"/>
      </c:barChart>
      <c:catAx>
        <c:axId val="4838722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90467"/>
        <c:crossesAt val="0"/>
        <c:auto val="1"/>
        <c:lblAlgn val="ctr"/>
        <c:lblOffset val="100"/>
        <c:noMultiLvlLbl val="0"/>
      </c:catAx>
      <c:valAx>
        <c:axId val="87590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8722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26206951721931"/>
          <c:y val="0.38020109993889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8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417" spc="-1" strike="noStrike">
                <a:solidFill>
                  <a:srgbClr val="000000"/>
                </a:solidFill>
                <a:latin typeface="Arial"/>
              </a:defRPr>
            </a:pPr>
            <a:r>
              <a:rPr b="0" sz="2417" spc="-1" strike="noStrike">
                <a:solidFill>
                  <a:srgbClr val="000000"/>
                </a:solidFill>
                <a:latin typeface="Arial"/>
              </a:rPr>
              <a:t>GUAICURU 2009</a:t>
            </a:r>
          </a:p>
        </c:rich>
      </c:tx>
      <c:layout>
        <c:manualLayout>
          <c:xMode val="edge"/>
          <c:yMode val="edge"/>
          <c:x val="0.37685345657616"/>
          <c:y val="0.020041081441181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729058347776"/>
          <c:y val="0.156164991950258"/>
          <c:w val="0.78367032543809"/>
          <c:h val="0.803697329706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12</c:v>
                </c:pt>
                <c:pt idx="1">
                  <c:v>121</c:v>
                </c:pt>
                <c:pt idx="2">
                  <c:v>102</c:v>
                </c:pt>
                <c:pt idx="3">
                  <c:v>111</c:v>
                </c:pt>
                <c:pt idx="4">
                  <c:v>44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53</c:v>
                </c:pt>
                <c:pt idx="1">
                  <c:v>65</c:v>
                </c:pt>
                <c:pt idx="2">
                  <c:v>98</c:v>
                </c:pt>
                <c:pt idx="3">
                  <c:v>94</c:v>
                </c:pt>
                <c:pt idx="4">
                  <c:v>310</c:v>
                </c:pt>
              </c:numCache>
            </c:numRef>
          </c:val>
        </c:ser>
        <c:gapWidth val="100"/>
        <c:overlap val="0"/>
        <c:axId val="83616347"/>
        <c:axId val="113517"/>
      </c:barChart>
      <c:catAx>
        <c:axId val="8361634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517"/>
        <c:crossesAt val="0"/>
        <c:auto val="1"/>
        <c:lblAlgn val="ctr"/>
        <c:lblOffset val="100"/>
        <c:noMultiLvlLbl val="0"/>
      </c:catAx>
      <c:valAx>
        <c:axId val="113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1634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23608704024649"/>
          <c:y val="0.39055126852828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87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EA7D5-7AC9-41CF-9681-C720CE02AF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BC0-056B-4D0C-A4A3-332C623F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CEA-9249-42B4-8572-4BA59B08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358-ED14-40CC-AA8C-E9740027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D08-C99D-4FA5-8FCE-62D404D3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370-1F52-4CAB-9448-7301D37C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585-175A-4ED4-BC52-B9A31A39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791-5604-4384-8F9E-F91CF641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822-FB83-470F-811A-9DC7DE48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33280"/>
            <a:ext cx="9066240" cy="64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560-DB24-4125-8F83-8BB0ABF5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F2D-7789-4DC7-9E3E-0AF8E3F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3B6-70A0-4655-9CF5-91348133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FC5-2CCF-490B-BE79-3582DC92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C2188-3803-4832-A0A2-B3165239B1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62040" y="539640"/>
          <a:ext cx="8697960" cy="612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9640" y="539640"/>
          <a:ext cx="8999640" cy="648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72960" y="534960"/>
          <a:ext cx="9347400" cy="6485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